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comments/comment3.xml" ContentType="application/vnd.openxmlformats-officedocument.presentationml.comments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670675" cy="9925050"/>
</p:presentation>
</file>

<file path=ppt/commentAuthors.xml><?xml version="1.0" encoding="utf-8"?>
<p:cmAuthorLst xmlns:p="http://schemas.openxmlformats.org/presentationml/2006/main">
  <p:cmAuthor id="0" name="steinmetzp" initials="s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<Relationship Id="rId20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11-07-10T15:22:44.281000000" idx="1">
    <p:pos x="10" y="10"/>
    <p:text>une autonomie "relative, un exercice contraint</p:text>
  </p:cm>
</p:cmLst>
</file>

<file path=ppt/comments/comment4.xml><?xml version="1.0" encoding="utf-8"?>
<p:cmLst xmlns:p="http://schemas.openxmlformats.org/presentationml/2006/main">
  <p:cm authorId="0" dt="2011-07-10T15:22:44.281000000" idx="2">
    <p:pos x="10" y="10"/>
    <p:text>une autonomie "relative, un exercice contraint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13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3a77"/>
                </a:solidFill>
                <a:latin typeface="Arial Black"/>
              </a:rPr>
              <a:t>Click to move the slide</a:t>
            </a: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4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 type="sldNum" idx="15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5833-8692-4D41-A5C1-E0B6D5BE42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1D15-0668-4977-97BE-2DBE054B828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7556-670B-4AA2-A326-A1066F2C2AE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4A85-3AC3-4F99-B1FE-0CABD0B8BE9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3238-812B-4961-9CA8-7CD43548E37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058D-DEED-4475-8FDC-FA9D0D9C2BD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9201-0D5B-4CD3-89D3-D38679EB641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A550-FC6B-4B35-B55F-1B939F5CD47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3790-522C-4895-A46D-587DAE07C64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4149-379B-4233-BDFA-3442FB5A2E9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entions are targeted were specific French expertise can be promoted or/and where France feels that there is a priority and it is still to be promoted within the international commun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3430-F06E-4B57-AB49-A8F79D57F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741672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32000" y="3977640"/>
            <a:ext cx="741672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588D-9B52-4F38-963F-D15085E7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32000" y="397764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32520" y="397764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5E6F-22CE-47C2-AA54-2958E0AA9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39760" y="162828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47160" y="162828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32000" y="397764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39760" y="397764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47160" y="397764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A744-EAF3-4E5A-93D0-61BC99C5C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A8A1-CF57-4372-A164-2B57D8E36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32000" y="1628280"/>
            <a:ext cx="74167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F63B-3135-4565-907B-C2C36964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741672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60C8-7FD7-4757-ACAA-2F048EF9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6888-5A77-459F-8732-017BCF12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3284-B585-4E6C-A628-4CE1C1AD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32000" y="189000"/>
            <a:ext cx="7415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8727-07EC-4A9B-B97C-881771D0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32000" y="397764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2F9B-411A-4F8D-A521-B245ED6B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32000" y="1628280"/>
            <a:ext cx="74167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1BD2-A4FE-473E-802F-3C037685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32520" y="397764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9DC2-7F77-4963-A72A-0456082E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32000" y="3977640"/>
            <a:ext cx="741672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FD03-6D9B-47D0-9E47-CA751366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741672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32000" y="3977640"/>
            <a:ext cx="741672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B2F5-FC5D-4535-B778-8CEE9B87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32000" y="397764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32520" y="397764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8833-9392-4514-9667-A12571806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39760" y="162828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47160" y="162828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32000" y="397764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39760" y="397764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47160" y="397764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C3E2-2E12-43BF-B215-5BEF37495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20D29-EA19-4CF1-81AF-C992F810F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32000" y="1628280"/>
            <a:ext cx="74167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DA34B-996C-4480-91E7-6F3017A0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741672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1F683-24C7-4830-AABE-21D0551E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B81B1-EA28-4562-8E77-3DA12B7B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BDAE5-CEB5-4036-9FC3-44D29E4C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741672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7E3F-6250-402A-9106-E8B90896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32000" y="189000"/>
            <a:ext cx="7415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A68A2-9F2A-4537-9D12-D4962FB8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32000" y="397764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55DA5-C478-4E70-98A3-2014AB12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32520" y="397764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6BC2F-85B7-4B1F-B61F-BFD26FAD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32000" y="3977640"/>
            <a:ext cx="741672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30992-CF77-4545-913E-7C5E7EFB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741672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32000" y="3977640"/>
            <a:ext cx="741672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D7E29-8C82-4CDB-B92D-802A8C7A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32000" y="397764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32520" y="397764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6FEBD-0F22-49BF-B5F2-6B35F3277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39760" y="162828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47160" y="162828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32000" y="397764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39760" y="397764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47160" y="397764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590CF-912A-410D-B932-39B0231EF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F53F3-B6EB-46C8-B256-F4F82713C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32000" y="1628280"/>
            <a:ext cx="74167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4FC92-20F4-4188-847F-3B3FFA0B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741672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138E2-FBA6-4326-AE39-7A29746F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8C08-B4D8-4D12-B514-8352B767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8B548-C8F4-42B0-81AD-B8399DF5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45CD8-866A-4E6D-9D42-4CF09392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332000" y="189000"/>
            <a:ext cx="7415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DCB5B-E37B-496E-9753-CEDBF0BE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32000" y="397764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8B7DC-61A0-4D9E-BD9B-551FB658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132520" y="397764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2D721-74C5-4CD1-85C3-EB86DF2D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332000" y="3977640"/>
            <a:ext cx="741672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69478-C03B-47F4-99F8-7BC437A8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741672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332000" y="3977640"/>
            <a:ext cx="741672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FFDEA-62F4-4D5E-9D09-F0A5F142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332000" y="397764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132520" y="397764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20FBE-2286-4856-A735-FE346B6F0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839760" y="162828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347160" y="162828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332000" y="397764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839760" y="397764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347160" y="3977640"/>
            <a:ext cx="23878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61FF6-5A5B-4383-A869-6E8200C55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CB3D-ED46-4482-92E8-8A788913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32000" y="189000"/>
            <a:ext cx="7415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A6A3-7B40-4F01-8A07-00603278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32000" y="397764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68D7-841D-4514-AA78-592F8333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32520" y="397764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3BB1-9E40-4C9B-9239-E76DAAE6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32520" y="1628280"/>
            <a:ext cx="361908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32000" y="3977640"/>
            <a:ext cx="7416720" cy="2145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4BED-86B3-449B-8DF8-EE7EFBA9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95280" y="6256440"/>
            <a:ext cx="8353440" cy="264960"/>
            <a:chOff x="395280" y="6256440"/>
            <a:chExt cx="8353440" cy="264960"/>
          </a:xfrm>
        </p:grpSpPr>
        <p:sp>
          <p:nvSpPr>
            <p:cNvPr id="1" name="Line 3"/>
            <p:cNvSpPr/>
            <p:nvPr/>
          </p:nvSpPr>
          <p:spPr>
            <a:xfrm>
              <a:off x="2843280" y="6440400"/>
              <a:ext cx="5905440" cy="0"/>
            </a:xfrm>
            <a:prstGeom prst="line">
              <a:avLst/>
            </a:prstGeom>
            <a:ln w="9360">
              <a:solidFill>
                <a:srgbClr val="a589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93a77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8353440" y="6299280"/>
              <a:ext cx="108000" cy="108000"/>
            </a:xfrm>
            <a:prstGeom prst="rect">
              <a:avLst/>
            </a:prstGeom>
            <a:solidFill>
              <a:srgbClr val="693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93a77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8496360" y="6299280"/>
              <a:ext cx="108000" cy="108000"/>
            </a:xfrm>
            <a:prstGeom prst="rect">
              <a:avLst/>
            </a:prstGeom>
            <a:solidFill>
              <a:srgbClr val="a58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93a77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640720" y="6299280"/>
              <a:ext cx="108000" cy="108000"/>
            </a:xfrm>
            <a:prstGeom prst="rect">
              <a:avLst/>
            </a:prstGeom>
            <a:solidFill>
              <a:srgbClr val="c4b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93a77"/>
                </a:solidFill>
                <a:latin typeface="Arial"/>
              </a:endParaRPr>
            </a:p>
          </p:txBody>
        </p:sp>
        <p:pic>
          <p:nvPicPr>
            <p:cNvPr id="5" name="Picture 7" descr="developpeur_durables_v2"/>
            <p:cNvPicPr/>
            <p:nvPr/>
          </p:nvPicPr>
          <p:blipFill>
            <a:blip r:embed="rId2"/>
            <a:stretch/>
          </p:blipFill>
          <p:spPr>
            <a:xfrm>
              <a:off x="395280" y="6256440"/>
              <a:ext cx="2389320" cy="26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3a77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332000" y="1628280"/>
            <a:ext cx="741672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marL="244440" indent="-244440">
              <a:spcBef>
                <a:spcPts val="2001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463680" indent="-217440">
              <a:spcBef>
                <a:spcPts val="2001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2" marL="646200" indent="-181080">
              <a:spcBef>
                <a:spcPts val="2001"/>
              </a:spcBef>
              <a:buClr>
                <a:srgbClr val="97233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3" marL="828720" indent="-181080">
              <a:spcBef>
                <a:spcPts val="2001"/>
              </a:spcBef>
              <a:buClr>
                <a:srgbClr val="0023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4" marL="1000080" indent="-169920">
              <a:spcBef>
                <a:spcPts val="2001"/>
              </a:spcBef>
              <a:buClr>
                <a:srgbClr val="0023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5" marL="1000080" indent="-169920">
              <a:spcBef>
                <a:spcPts val="2001"/>
              </a:spcBef>
              <a:buClr>
                <a:srgbClr val="0023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6" marL="1000080" indent="-169920">
              <a:spcBef>
                <a:spcPts val="2001"/>
              </a:spcBef>
              <a:buClr>
                <a:srgbClr val="0023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039000" y="6453000"/>
            <a:ext cx="2133360" cy="1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juillet 20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01760" y="6453000"/>
            <a:ext cx="4752720" cy="1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Times New Roman"/>
              </a:rPr>
              <a:t>atelier de formation collective CIRAD IN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245440" y="6453000"/>
            <a:ext cx="503280" cy="1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192B-02E9-423D-9F1F-A9CD81FC1F13}" type="slidenum"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395280" y="6256440"/>
            <a:ext cx="8353440" cy="264960"/>
            <a:chOff x="395280" y="6256440"/>
            <a:chExt cx="8353440" cy="264960"/>
          </a:xfrm>
        </p:grpSpPr>
        <p:sp>
          <p:nvSpPr>
            <p:cNvPr id="48" name="Line 3"/>
            <p:cNvSpPr/>
            <p:nvPr/>
          </p:nvSpPr>
          <p:spPr>
            <a:xfrm>
              <a:off x="2843280" y="6440400"/>
              <a:ext cx="5905440" cy="0"/>
            </a:xfrm>
            <a:prstGeom prst="line">
              <a:avLst/>
            </a:prstGeom>
            <a:ln w="9360">
              <a:solidFill>
                <a:srgbClr val="a589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93a77"/>
                </a:solidFill>
                <a:latin typeface="Arial"/>
              </a:endParaRPr>
            </a:p>
          </p:txBody>
        </p:sp>
        <p:sp>
          <p:nvSpPr>
            <p:cNvPr id="49" name="Rectangle 4"/>
            <p:cNvSpPr/>
            <p:nvPr/>
          </p:nvSpPr>
          <p:spPr>
            <a:xfrm>
              <a:off x="8353440" y="6299280"/>
              <a:ext cx="108000" cy="108000"/>
            </a:xfrm>
            <a:prstGeom prst="rect">
              <a:avLst/>
            </a:prstGeom>
            <a:solidFill>
              <a:srgbClr val="693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93a77"/>
                </a:solidFill>
                <a:latin typeface="Arial"/>
              </a:endParaRPr>
            </a:p>
          </p:txBody>
        </p:sp>
        <p:sp>
          <p:nvSpPr>
            <p:cNvPr id="50" name="Rectangle 5"/>
            <p:cNvSpPr/>
            <p:nvPr/>
          </p:nvSpPr>
          <p:spPr>
            <a:xfrm>
              <a:off x="8496360" y="6299280"/>
              <a:ext cx="108000" cy="108000"/>
            </a:xfrm>
            <a:prstGeom prst="rect">
              <a:avLst/>
            </a:prstGeom>
            <a:solidFill>
              <a:srgbClr val="a58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93a77"/>
                </a:solidFill>
                <a:latin typeface="Arial"/>
              </a:endParaRPr>
            </a:p>
          </p:txBody>
        </p:sp>
        <p:sp>
          <p:nvSpPr>
            <p:cNvPr id="51" name="Rectangle 6"/>
            <p:cNvSpPr/>
            <p:nvPr/>
          </p:nvSpPr>
          <p:spPr>
            <a:xfrm>
              <a:off x="8640720" y="6299280"/>
              <a:ext cx="108000" cy="108000"/>
            </a:xfrm>
            <a:prstGeom prst="rect">
              <a:avLst/>
            </a:prstGeom>
            <a:solidFill>
              <a:srgbClr val="c4b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93a77"/>
                </a:solidFill>
                <a:latin typeface="Arial"/>
              </a:endParaRPr>
            </a:p>
          </p:txBody>
        </p:sp>
        <p:pic>
          <p:nvPicPr>
            <p:cNvPr id="52" name="Picture 7" descr="developpeur_durables_v2"/>
            <p:cNvPicPr/>
            <p:nvPr/>
          </p:nvPicPr>
          <p:blipFill>
            <a:blip r:embed="rId2"/>
            <a:stretch/>
          </p:blipFill>
          <p:spPr>
            <a:xfrm>
              <a:off x="395280" y="6256440"/>
              <a:ext cx="2389320" cy="26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3a77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332000" y="1628280"/>
            <a:ext cx="741672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marL="244440" indent="-244440">
              <a:spcBef>
                <a:spcPts val="2001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463680" indent="-217440">
              <a:spcBef>
                <a:spcPts val="2001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2" marL="646200" indent="-181080">
              <a:spcBef>
                <a:spcPts val="2001"/>
              </a:spcBef>
              <a:buClr>
                <a:srgbClr val="97233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3" marL="828720" indent="-181080">
              <a:spcBef>
                <a:spcPts val="2001"/>
              </a:spcBef>
              <a:buClr>
                <a:srgbClr val="0023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4" marL="1000080" indent="-169920">
              <a:spcBef>
                <a:spcPts val="2001"/>
              </a:spcBef>
              <a:buClr>
                <a:srgbClr val="0023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5" marL="1000080" indent="-169920">
              <a:spcBef>
                <a:spcPts val="2001"/>
              </a:spcBef>
              <a:buClr>
                <a:srgbClr val="0023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6" marL="1000080" indent="-169920">
              <a:spcBef>
                <a:spcPts val="2001"/>
              </a:spcBef>
              <a:buClr>
                <a:srgbClr val="0023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039000" y="6453000"/>
            <a:ext cx="2133360" cy="1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juillet 20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401760" y="6453000"/>
            <a:ext cx="4752720" cy="1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Times New Roman"/>
              </a:rPr>
              <a:t>atelier de formation collective CIRAD IN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45440" y="6453000"/>
            <a:ext cx="503280" cy="1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9814-FF48-4EA5-97F6-B0D48B0772A6}" type="slidenum"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395280" y="369720"/>
            <a:ext cx="826920" cy="648000"/>
          </a:xfrm>
          <a:prstGeom prst="rect">
            <a:avLst/>
          </a:prstGeom>
          <a:solidFill>
            <a:srgbClr val="693a77"/>
          </a:solidFill>
          <a:ln w="9360">
            <a:solidFill>
              <a:srgbClr val="693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3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395280" y="6256440"/>
            <a:ext cx="8353440" cy="264960"/>
            <a:chOff x="395280" y="6256440"/>
            <a:chExt cx="8353440" cy="264960"/>
          </a:xfrm>
        </p:grpSpPr>
        <p:sp>
          <p:nvSpPr>
            <p:cNvPr id="96" name="Line 3"/>
            <p:cNvSpPr/>
            <p:nvPr/>
          </p:nvSpPr>
          <p:spPr>
            <a:xfrm>
              <a:off x="2843280" y="6440400"/>
              <a:ext cx="5905440" cy="0"/>
            </a:xfrm>
            <a:prstGeom prst="line">
              <a:avLst/>
            </a:prstGeom>
            <a:ln w="9360">
              <a:solidFill>
                <a:srgbClr val="a589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93a77"/>
                </a:solidFill>
                <a:latin typeface="Arial"/>
              </a:endParaRPr>
            </a:p>
          </p:txBody>
        </p:sp>
        <p:sp>
          <p:nvSpPr>
            <p:cNvPr id="97" name="Rectangle 4"/>
            <p:cNvSpPr/>
            <p:nvPr/>
          </p:nvSpPr>
          <p:spPr>
            <a:xfrm>
              <a:off x="8353440" y="6299280"/>
              <a:ext cx="108000" cy="108000"/>
            </a:xfrm>
            <a:prstGeom prst="rect">
              <a:avLst/>
            </a:prstGeom>
            <a:solidFill>
              <a:srgbClr val="693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93a77"/>
                </a:solidFill>
                <a:latin typeface="Arial"/>
              </a:endParaRPr>
            </a:p>
          </p:txBody>
        </p:sp>
        <p:sp>
          <p:nvSpPr>
            <p:cNvPr id="98" name="Rectangle 5"/>
            <p:cNvSpPr/>
            <p:nvPr/>
          </p:nvSpPr>
          <p:spPr>
            <a:xfrm>
              <a:off x="8496360" y="6299280"/>
              <a:ext cx="108000" cy="108000"/>
            </a:xfrm>
            <a:prstGeom prst="rect">
              <a:avLst/>
            </a:prstGeom>
            <a:solidFill>
              <a:srgbClr val="a58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93a77"/>
                </a:solidFill>
                <a:latin typeface="Arial"/>
              </a:endParaRPr>
            </a:p>
          </p:txBody>
        </p:sp>
        <p:sp>
          <p:nvSpPr>
            <p:cNvPr id="99" name="Rectangle 6"/>
            <p:cNvSpPr/>
            <p:nvPr/>
          </p:nvSpPr>
          <p:spPr>
            <a:xfrm>
              <a:off x="8640720" y="6299280"/>
              <a:ext cx="108000" cy="108000"/>
            </a:xfrm>
            <a:prstGeom prst="rect">
              <a:avLst/>
            </a:prstGeom>
            <a:solidFill>
              <a:srgbClr val="c4b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93a77"/>
                </a:solidFill>
                <a:latin typeface="Arial"/>
              </a:endParaRPr>
            </a:p>
          </p:txBody>
        </p:sp>
        <p:pic>
          <p:nvPicPr>
            <p:cNvPr id="100" name="Picture 7" descr="developpeur_durables_v2"/>
            <p:cNvPicPr/>
            <p:nvPr/>
          </p:nvPicPr>
          <p:blipFill>
            <a:blip r:embed="rId2"/>
            <a:stretch/>
          </p:blipFill>
          <p:spPr>
            <a:xfrm>
              <a:off x="395280" y="6256440"/>
              <a:ext cx="2389320" cy="26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3a77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32000" y="1628280"/>
            <a:ext cx="741672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marL="244440" indent="-244440">
              <a:spcBef>
                <a:spcPts val="2001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463680" indent="-217440">
              <a:spcBef>
                <a:spcPts val="2001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2" marL="646200" indent="-181080">
              <a:spcBef>
                <a:spcPts val="2001"/>
              </a:spcBef>
              <a:buClr>
                <a:srgbClr val="97233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3" marL="828720" indent="-181080">
              <a:spcBef>
                <a:spcPts val="2001"/>
              </a:spcBef>
              <a:buClr>
                <a:srgbClr val="0023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4" marL="1000080" indent="-169920">
              <a:spcBef>
                <a:spcPts val="2001"/>
              </a:spcBef>
              <a:buClr>
                <a:srgbClr val="0023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5" marL="1000080" indent="-169920">
              <a:spcBef>
                <a:spcPts val="2001"/>
              </a:spcBef>
              <a:buClr>
                <a:srgbClr val="0023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6" marL="1000080" indent="-169920">
              <a:spcBef>
                <a:spcPts val="2001"/>
              </a:spcBef>
              <a:buClr>
                <a:srgbClr val="0023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6039000" y="6453000"/>
            <a:ext cx="2133360" cy="1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11 juillet 20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401760" y="6453000"/>
            <a:ext cx="4752720" cy="1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Times New Roman"/>
              </a:rPr>
              <a:t>atelier de formation collective CIRAD IN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8245440" y="6453000"/>
            <a:ext cx="503280" cy="1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E9A3-0900-4740-B2B4-8069E2BA2E64}" type="slidenum"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Line 7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9360">
            <a:solidFill>
              <a:srgbClr val="693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3a77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332000" y="1628280"/>
            <a:ext cx="7416720" cy="4497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marL="244440" indent="-244440">
              <a:spcBef>
                <a:spcPts val="2001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463680" indent="-217440">
              <a:spcBef>
                <a:spcPts val="2001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2" marL="646200" indent="-181080">
              <a:spcBef>
                <a:spcPts val="2001"/>
              </a:spcBef>
              <a:buClr>
                <a:srgbClr val="97233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3" marL="828720" indent="-181080">
              <a:spcBef>
                <a:spcPts val="2001"/>
              </a:spcBef>
              <a:buClr>
                <a:srgbClr val="0023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4" marL="1000080" indent="-169920">
              <a:spcBef>
                <a:spcPts val="2001"/>
              </a:spcBef>
              <a:buClr>
                <a:srgbClr val="0023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5" marL="1000080" indent="-169920">
              <a:spcBef>
                <a:spcPts val="2001"/>
              </a:spcBef>
              <a:buClr>
                <a:srgbClr val="0023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6" marL="1000080" indent="-169920">
              <a:spcBef>
                <a:spcPts val="2001"/>
              </a:spcBef>
              <a:buClr>
                <a:srgbClr val="0023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395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6039000" y="6453000"/>
            <a:ext cx="2133360" cy="1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693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93a77"/>
                </a:solidFill>
                <a:latin typeface="Times New Roman"/>
              </a:rPr>
              <a:t>11 juillet 20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94920" y="6453000"/>
            <a:ext cx="4753080" cy="1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700" spc="-1" strike="noStrike">
                <a:solidFill>
                  <a:srgbClr val="693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693a77"/>
                </a:solidFill>
                <a:latin typeface="Times New Roman"/>
              </a:rPr>
              <a:t>atelier de formation collective CIRAD IN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8245440" y="6453000"/>
            <a:ext cx="503280" cy="18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900" spc="-1" strike="noStrike">
                <a:solidFill>
                  <a:srgbClr val="693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6819-D692-4C2C-9A76-6F5DC28ECA3D}" type="slidenum">
              <a:rPr b="1" lang="fr-FR" sz="900" spc="-1" strike="noStrike">
                <a:solidFill>
                  <a:srgbClr val="693a77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comments" Target="../comments/commen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comments" Target="../comments/comment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2752200"/>
            <a:ext cx="8064720" cy="1443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Arial Black"/>
              </a:rPr>
              <a:t>Stakeholders consultative Conference</a:t>
            </a:r>
            <a:br>
              <a:rPr sz="3000"/>
            </a:br>
            <a:r>
              <a:rPr b="0" lang="fr-FR" sz="3000" spc="-1" strike="noStrike">
                <a:solidFill>
                  <a:srgbClr val="ffffff"/>
                </a:solidFill>
                <a:latin typeface="Arial Black"/>
              </a:rPr>
              <a:t>food security information network</a:t>
            </a:r>
            <a:endParaRPr b="0" lang="en-US" sz="30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539640" y="443664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ffffff"/>
                </a:solidFill>
                <a:latin typeface="Arial"/>
              </a:rPr>
              <a:t>What ressources for food security information systems?</a:t>
            </a:r>
            <a:endParaRPr b="0" lang="en-US" sz="2100" spc="-1" strike="noStrike">
              <a:solidFill>
                <a:srgbClr val="002395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3051000" y="2387520"/>
            <a:ext cx="3024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8-9 September 2011</a:t>
            </a:r>
            <a:endParaRPr b="0" lang="en-US" sz="1200" spc="-1" strike="noStrike">
              <a:solidFill>
                <a:srgbClr val="693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Espace réservé de la date 3"/>
          <p:cNvSpPr/>
          <p:nvPr/>
        </p:nvSpPr>
        <p:spPr>
          <a:xfrm>
            <a:off x="6039000" y="6453360"/>
            <a:ext cx="2133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93a77"/>
                </a:solidFill>
                <a:latin typeface="Arial"/>
              </a:rPr>
              <a:t>11 juillet 2011</a:t>
            </a:r>
            <a:endParaRPr b="0" lang="en-US" sz="8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37" name="Espace réservé du pied de page 4"/>
          <p:cNvSpPr/>
          <p:nvPr/>
        </p:nvSpPr>
        <p:spPr>
          <a:xfrm>
            <a:off x="401760" y="6453360"/>
            <a:ext cx="4752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693a77"/>
                </a:solidFill>
                <a:latin typeface="Arial"/>
              </a:rPr>
              <a:t>atelier de formation collective CIRAD INRA</a:t>
            </a:r>
            <a:endParaRPr b="0" lang="en-US" sz="7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38" name="Espace réservé du numéro de diapositive 5"/>
          <p:cNvSpPr/>
          <p:nvPr/>
        </p:nvSpPr>
        <p:spPr>
          <a:xfrm>
            <a:off x="8245440" y="6453360"/>
            <a:ext cx="503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17AF-DE1C-46C2-9083-CAE171C7F0FB}" type="slidenum">
              <a:rPr b="1" lang="fr-FR" sz="900" spc="-1" strike="noStrike">
                <a:solidFill>
                  <a:srgbClr val="693a77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569440" cy="478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 fontScale="97000"/>
          </a:bodyPr>
          <a:p>
            <a:pPr marL="236880" indent="-236880">
              <a:spcBef>
                <a:spcPts val="2999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395"/>
                </a:solidFill>
                <a:latin typeface="Arial"/>
              </a:rPr>
              <a:t>Few demands from our partners (publics or private)</a:t>
            </a:r>
            <a:endParaRPr b="0" lang="en-US" sz="2400" spc="-1" strike="noStrike">
              <a:solidFill>
                <a:srgbClr val="002395"/>
              </a:solidFill>
              <a:latin typeface="Arial"/>
            </a:endParaRPr>
          </a:p>
          <a:p>
            <a:pPr marL="236880" indent="-236880">
              <a:spcBef>
                <a:spcPts val="1199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395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395"/>
                </a:solidFill>
                <a:latin typeface="Arial"/>
              </a:rPr>
              <a:t>Actions usually pushed by crisis </a:t>
            </a:r>
            <a:endParaRPr b="0" lang="en-US" sz="2400" spc="-1" strike="noStrike">
              <a:solidFill>
                <a:srgbClr val="002395"/>
              </a:solidFill>
              <a:latin typeface="Arial"/>
            </a:endParaRPr>
          </a:p>
          <a:p>
            <a:pPr lvl="1" marL="449640" indent="-210600">
              <a:spcBef>
                <a:spcPts val="601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233f"/>
                </a:solidFill>
                <a:latin typeface="Arial"/>
              </a:rPr>
              <a:t>External demand (donors, international community) with information for triggering response and adapted to response tools (weak appropriation)</a:t>
            </a:r>
            <a:endParaRPr b="0" lang="en-US" sz="2000" spc="-1" strike="noStrike">
              <a:solidFill>
                <a:srgbClr val="97233f"/>
              </a:solidFill>
              <a:latin typeface="Arial"/>
            </a:endParaRPr>
          </a:p>
          <a:p>
            <a:pPr lvl="1" marL="449640" indent="-210600">
              <a:spcBef>
                <a:spcPts val="601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233f"/>
                </a:solidFill>
                <a:latin typeface="Arial"/>
              </a:rPr>
              <a:t>Multiplication of information systems/bulletin, no coordination/ complementarity</a:t>
            </a:r>
            <a:endParaRPr b="0" lang="en-US" sz="2000" spc="-1" strike="noStrike">
              <a:solidFill>
                <a:srgbClr val="97233f"/>
              </a:solidFill>
              <a:latin typeface="Arial"/>
            </a:endParaRPr>
          </a:p>
          <a:p>
            <a:pPr lvl="1" marL="449640" indent="-210600">
              <a:spcBef>
                <a:spcPts val="601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233f"/>
                </a:solidFill>
                <a:latin typeface="Arial"/>
              </a:rPr>
              <a:t>Not adapted to weak data availability/quality</a:t>
            </a:r>
            <a:endParaRPr b="0" lang="en-US" sz="2000" spc="-1" strike="noStrike">
              <a:solidFill>
                <a:srgbClr val="97233f"/>
              </a:solidFill>
              <a:latin typeface="Arial"/>
            </a:endParaRPr>
          </a:p>
          <a:p>
            <a:pPr marL="236880" indent="-236880">
              <a:spcBef>
                <a:spcPts val="1199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395"/>
                </a:solidFill>
                <a:latin typeface="Arial"/>
              </a:rPr>
              <a:t>Sustainability problems</a:t>
            </a:r>
            <a:endParaRPr b="0" lang="en-US" sz="2400" spc="-1" strike="noStrike">
              <a:solidFill>
                <a:srgbClr val="002395"/>
              </a:solidFill>
              <a:latin typeface="Arial"/>
            </a:endParaRPr>
          </a:p>
          <a:p>
            <a:pPr lvl="1" marL="449640" indent="-210600">
              <a:spcBef>
                <a:spcPts val="601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233f"/>
                </a:solidFill>
                <a:latin typeface="Arial"/>
              </a:rPr>
              <a:t>Financing </a:t>
            </a:r>
            <a:endParaRPr b="0" lang="en-US" sz="2000" spc="-1" strike="noStrike">
              <a:solidFill>
                <a:srgbClr val="97233f"/>
              </a:solidFill>
              <a:latin typeface="Arial"/>
            </a:endParaRPr>
          </a:p>
          <a:p>
            <a:pPr lvl="1" marL="449640" indent="-210600">
              <a:spcBef>
                <a:spcPts val="601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233f"/>
                </a:solidFill>
                <a:latin typeface="Arial"/>
              </a:rPr>
              <a:t>Institutional (independence</a:t>
            </a:r>
            <a:r>
              <a:rPr b="0" lang="en-US" sz="2000" spc="-1" strike="noStrike">
                <a:solidFill>
                  <a:srgbClr val="97233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97233f"/>
              </a:solidFill>
              <a:latin typeface="Arial"/>
            </a:endParaRPr>
          </a:p>
          <a:p>
            <a:pPr marL="236880" indent="-236880">
              <a:spcBef>
                <a:spcPts val="1199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395"/>
                </a:solidFill>
                <a:latin typeface="Arial"/>
              </a:rPr>
              <a:t>Donor side : </a:t>
            </a:r>
            <a:r>
              <a:rPr b="0" lang="en-US" sz="2000" spc="-1" strike="noStrike">
                <a:solidFill>
                  <a:srgbClr val="97233f"/>
                </a:solidFill>
                <a:latin typeface="Arial"/>
              </a:rPr>
              <a:t>A lot of information, limited response tools, need to prioritiz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lvl="1" marL="449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233f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125892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93a77"/>
                </a:solidFill>
                <a:latin typeface="Arial Black"/>
              </a:rPr>
              <a:t>Difficulties</a:t>
            </a:r>
            <a:endParaRPr b="0" lang="en-US" sz="3400" spc="-1" strike="noStrike">
              <a:solidFill>
                <a:srgbClr val="693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Espace réservé de la date 3"/>
          <p:cNvSpPr/>
          <p:nvPr/>
        </p:nvSpPr>
        <p:spPr>
          <a:xfrm>
            <a:off x="6039000" y="6453360"/>
            <a:ext cx="2133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93a77"/>
                </a:solidFill>
                <a:latin typeface="Arial"/>
              </a:rPr>
              <a:t>11 juillet 2011</a:t>
            </a:r>
            <a:endParaRPr b="0" lang="en-US" sz="8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42" name="Espace réservé du pied de page 4"/>
          <p:cNvSpPr/>
          <p:nvPr/>
        </p:nvSpPr>
        <p:spPr>
          <a:xfrm>
            <a:off x="401760" y="6453360"/>
            <a:ext cx="4752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693a77"/>
                </a:solidFill>
                <a:latin typeface="Arial"/>
              </a:rPr>
              <a:t>atelier de formation collective CIRAD INRA</a:t>
            </a:r>
            <a:endParaRPr b="0" lang="en-US" sz="7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43" name="Espace réservé du numéro de diapositive 5"/>
          <p:cNvSpPr/>
          <p:nvPr/>
        </p:nvSpPr>
        <p:spPr>
          <a:xfrm>
            <a:off x="8245440" y="6453360"/>
            <a:ext cx="503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D5A2-04F7-434C-B5B9-5F0E4C23EE19}" type="slidenum">
              <a:rPr b="1" lang="fr-FR" sz="900" spc="-1" strike="noStrike">
                <a:solidFill>
                  <a:srgbClr val="693a77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361360" cy="478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marL="244440" indent="-244440">
              <a:spcBef>
                <a:spcPts val="1199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395"/>
                </a:solidFill>
                <a:latin typeface="Arial"/>
              </a:rPr>
              <a:t>An expertise network </a:t>
            </a:r>
            <a:endParaRPr b="0" lang="en-US" sz="2400" spc="-1" strike="noStrike">
              <a:solidFill>
                <a:srgbClr val="002395"/>
              </a:solidFill>
              <a:latin typeface="Arial"/>
            </a:endParaRPr>
          </a:p>
          <a:p>
            <a:pPr lvl="1" marL="463680" indent="-217440">
              <a:spcBef>
                <a:spcPts val="601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233f"/>
                </a:solidFill>
                <a:latin typeface="Arial"/>
              </a:rPr>
              <a:t>To tackle new subjects and the role of IS (ex: over/malnutrition)</a:t>
            </a:r>
            <a:endParaRPr b="0" lang="en-US" sz="2000" spc="-1" strike="noStrike">
              <a:solidFill>
                <a:srgbClr val="97233f"/>
              </a:solidFill>
              <a:latin typeface="Arial"/>
            </a:endParaRPr>
          </a:p>
          <a:p>
            <a:pPr lvl="1" marL="463680" indent="-217440">
              <a:spcBef>
                <a:spcPts val="601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233f"/>
                </a:solidFill>
                <a:latin typeface="Arial"/>
              </a:rPr>
              <a:t>To support regional information systems and networks (methodology, best practices)</a:t>
            </a:r>
            <a:endParaRPr b="0" lang="en-US" sz="2000" spc="-1" strike="noStrike">
              <a:solidFill>
                <a:srgbClr val="97233f"/>
              </a:solidFill>
              <a:latin typeface="Arial"/>
            </a:endParaRPr>
          </a:p>
          <a:p>
            <a:pPr marL="244440" indent="-244440">
              <a:spcBef>
                <a:spcPts val="1199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395"/>
                </a:solidFill>
                <a:latin typeface="Arial"/>
              </a:rPr>
              <a:t>Advocacy for FSIS</a:t>
            </a:r>
            <a:endParaRPr b="0" lang="en-US" sz="2400" spc="-1" strike="noStrike">
              <a:solidFill>
                <a:srgbClr val="002395"/>
              </a:solidFill>
              <a:latin typeface="Arial"/>
            </a:endParaRPr>
          </a:p>
          <a:p>
            <a:pPr lvl="1" marL="463680" indent="-217440">
              <a:spcBef>
                <a:spcPts val="601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233f"/>
                </a:solidFill>
                <a:latin typeface="Arial"/>
              </a:rPr>
              <a:t>Among region and countries </a:t>
            </a:r>
            <a:endParaRPr b="0" lang="en-US" sz="2000" spc="-1" strike="noStrike">
              <a:solidFill>
                <a:srgbClr val="97233f"/>
              </a:solidFill>
              <a:latin typeface="Arial"/>
            </a:endParaRPr>
          </a:p>
          <a:p>
            <a:pPr lvl="1" marL="463680" indent="-217440">
              <a:spcBef>
                <a:spcPts val="601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233f"/>
                </a:solidFill>
                <a:latin typeface="Arial"/>
              </a:rPr>
              <a:t>Among donor community</a:t>
            </a:r>
            <a:endParaRPr b="0" lang="en-US" sz="2000" spc="-1" strike="noStrike">
              <a:solidFill>
                <a:srgbClr val="97233f"/>
              </a:solidFill>
              <a:latin typeface="Arial"/>
            </a:endParaRPr>
          </a:p>
          <a:p>
            <a:pPr marL="244440" indent="-244440">
              <a:spcBef>
                <a:spcPts val="1199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395"/>
                </a:solidFill>
                <a:latin typeface="Arial"/>
              </a:rPr>
              <a:t>Facilitate access to FS information</a:t>
            </a:r>
            <a:endParaRPr b="0" lang="en-US" sz="2400" spc="-1" strike="noStrike">
              <a:solidFill>
                <a:srgbClr val="002395"/>
              </a:solidFill>
              <a:latin typeface="Arial"/>
            </a:endParaRPr>
          </a:p>
          <a:p>
            <a:pPr lvl="1" marL="463680" indent="-217440">
              <a:spcBef>
                <a:spcPts val="601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233f"/>
                </a:solidFill>
                <a:latin typeface="Arial"/>
              </a:rPr>
              <a:t>Internet portal </a:t>
            </a:r>
            <a:endParaRPr b="0" lang="en-US" sz="2000" spc="-1" strike="noStrike">
              <a:solidFill>
                <a:srgbClr val="97233f"/>
              </a:solidFill>
              <a:latin typeface="Arial"/>
            </a:endParaRPr>
          </a:p>
          <a:p>
            <a:pPr lvl="1" marL="463680" indent="-217440">
              <a:spcBef>
                <a:spcPts val="601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233f"/>
                </a:solidFill>
                <a:latin typeface="Arial"/>
              </a:rPr>
              <a:t>Not try to produce new information  (information is not neutral : which one to choose?) -&gt; keep diversity of information sources but need of tools to decrypt the diversity of the information</a:t>
            </a:r>
            <a:endParaRPr b="0" lang="en-US" sz="2000" spc="-1" strike="noStrike">
              <a:solidFill>
                <a:srgbClr val="97233f"/>
              </a:solidFill>
              <a:latin typeface="Arial"/>
            </a:endParaRPr>
          </a:p>
          <a:p>
            <a:pPr lvl="1" marL="463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233f"/>
              </a:solidFill>
              <a:latin typeface="Arial"/>
            </a:endParaRPr>
          </a:p>
          <a:p>
            <a:pPr lvl="1" marL="463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233f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125892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93a77"/>
                </a:solidFill>
                <a:latin typeface="Arial Black"/>
              </a:rPr>
              <a:t>What could FSIN support </a:t>
            </a:r>
            <a:endParaRPr b="0" lang="en-US" sz="3400" spc="-1" strike="noStrike">
              <a:solidFill>
                <a:srgbClr val="693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064720" cy="1656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693a77"/>
                </a:solidFill>
                <a:latin typeface="Arial Black"/>
              </a:rPr>
              <a:t>Thank you</a:t>
            </a:r>
            <a:endParaRPr b="0" lang="en-US" sz="30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539640" y="4436640"/>
            <a:ext cx="8064720" cy="647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endParaRPr b="0" lang="en-US" sz="21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064720" cy="1656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693a77"/>
                </a:solidFill>
                <a:latin typeface="Arial Black"/>
              </a:rPr>
              <a:t>1. French support to Food security and role of AFD</a:t>
            </a:r>
            <a:endParaRPr b="0" lang="en-US" sz="30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539640" y="4436640"/>
            <a:ext cx="8064720" cy="647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endParaRPr b="0" lang="en-US" sz="21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e la date 3"/>
          <p:cNvSpPr/>
          <p:nvPr/>
        </p:nvSpPr>
        <p:spPr>
          <a:xfrm>
            <a:off x="6039000" y="6453360"/>
            <a:ext cx="2133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93a77"/>
                </a:solidFill>
                <a:latin typeface="Arial"/>
              </a:rPr>
              <a:t>11 juillet 2011</a:t>
            </a:r>
            <a:endParaRPr b="0" lang="en-US" sz="8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197" name="Espace réservé du pied de page 4"/>
          <p:cNvSpPr/>
          <p:nvPr/>
        </p:nvSpPr>
        <p:spPr>
          <a:xfrm>
            <a:off x="401760" y="6453360"/>
            <a:ext cx="4752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693a77"/>
                </a:solidFill>
                <a:latin typeface="Arial"/>
              </a:rPr>
              <a:t>atelier de formation collective CIRAD INRA</a:t>
            </a:r>
            <a:endParaRPr b="0" lang="en-US" sz="7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198" name="Espace réservé du numéro de diapositive 5"/>
          <p:cNvSpPr/>
          <p:nvPr/>
        </p:nvSpPr>
        <p:spPr>
          <a:xfrm>
            <a:off x="8245440" y="6453360"/>
            <a:ext cx="503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9AED-793D-4E62-98C8-5DC708DF60DD}" type="slidenum">
              <a:rPr b="1" lang="fr-FR" sz="900" spc="-1" strike="noStrike">
                <a:solidFill>
                  <a:srgbClr val="693a77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280360" cy="4784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marL="244440" indent="-244440">
              <a:spcBef>
                <a:spcPts val="2251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395"/>
                </a:solidFill>
                <a:latin typeface="Arial"/>
              </a:rPr>
              <a:t>Few numbers: 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1" marL="463680" indent="-217440">
              <a:spcBef>
                <a:spcPts val="675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7233f"/>
                </a:solidFill>
                <a:latin typeface="Arial"/>
              </a:rPr>
              <a:t>2010 : 8.64 billion € with 1.61 billion for agriculture and food security</a:t>
            </a:r>
            <a:endParaRPr b="0" lang="en-US" sz="1800" spc="-1" strike="noStrike">
              <a:solidFill>
                <a:srgbClr val="97233f"/>
              </a:solidFill>
              <a:latin typeface="Arial"/>
            </a:endParaRPr>
          </a:p>
          <a:p>
            <a:pPr lvl="1" marL="463680" indent="-217440">
              <a:spcBef>
                <a:spcPts val="675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7233f"/>
                </a:solidFill>
                <a:latin typeface="Arial"/>
              </a:rPr>
              <a:t>2009 :  62% multilateral (excluding debt release and scholarship) more or less 4 billion €</a:t>
            </a:r>
            <a:endParaRPr b="0" lang="en-US" sz="1800" spc="-1" strike="noStrike">
              <a:solidFill>
                <a:srgbClr val="97233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2395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2395"/>
                </a:solidFill>
                <a:latin typeface="Arial"/>
              </a:rPr>
              <a:t>1.7 billion € through European aid (EDF and other development programs)</a:t>
            </a:r>
            <a:endParaRPr b="0" i="1" lang="en-US" sz="1800" spc="-1" strike="noStrike">
              <a:solidFill>
                <a:srgbClr val="97233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2395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2395"/>
                </a:solidFill>
                <a:latin typeface="Arial"/>
              </a:rPr>
              <a:t>378 million € for World Bank</a:t>
            </a:r>
            <a:endParaRPr b="0" i="1" lang="en-US" sz="1800" spc="-1" strike="noStrike">
              <a:solidFill>
                <a:srgbClr val="97233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2395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2395"/>
                </a:solidFill>
                <a:latin typeface="Arial"/>
              </a:rPr>
              <a:t>300 million € for HIV aid fund</a:t>
            </a:r>
            <a:endParaRPr b="0" i="1" lang="en-US" sz="1800" spc="-1" strike="noStrike">
              <a:solidFill>
                <a:srgbClr val="97233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2395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2395"/>
                </a:solidFill>
                <a:latin typeface="Arial"/>
              </a:rPr>
              <a:t>… </a:t>
            </a:r>
            <a:r>
              <a:rPr b="0" i="1" lang="en-US" sz="1800" spc="-1" strike="noStrike">
                <a:solidFill>
                  <a:srgbClr val="002395"/>
                </a:solidFill>
                <a:latin typeface="Arial"/>
              </a:rPr>
              <a:t>but food security not a high ranking priority : 37 million € for multilateral organisations for agriculture and food security </a:t>
            </a:r>
            <a:endParaRPr b="0" i="1" lang="en-US" sz="1800" spc="-1" strike="noStrike">
              <a:solidFill>
                <a:srgbClr val="97233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2395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2395"/>
                </a:solidFill>
                <a:latin typeface="Arial"/>
              </a:rPr>
              <a:t>Although G20 gives priority to food security</a:t>
            </a:r>
            <a:endParaRPr b="0" i="1" lang="en-US" sz="1800" spc="-1" strike="noStrike">
              <a:solidFill>
                <a:srgbClr val="97233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97233f"/>
              </a:solidFill>
              <a:latin typeface="Arial"/>
            </a:endParaRPr>
          </a:p>
          <a:p>
            <a:pPr lvl="1" marL="463680" indent="-217440">
              <a:spcBef>
                <a:spcPts val="675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7233f"/>
                </a:solidFill>
                <a:latin typeface="Arial"/>
              </a:rPr>
              <a:t>AFD : main operator of sectoral bilateral aid, including food security and agriculture </a:t>
            </a:r>
            <a:endParaRPr b="0" lang="en-US" sz="1800" spc="-1" strike="noStrike">
              <a:solidFill>
                <a:srgbClr val="97233f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125892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93a77"/>
                </a:solidFill>
                <a:latin typeface="Arial Black"/>
              </a:rPr>
              <a:t>French Development Aid</a:t>
            </a:r>
            <a:endParaRPr b="0" lang="en-US" sz="3000" spc="-1" strike="noStrike">
              <a:solidFill>
                <a:srgbClr val="693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e la date 3"/>
          <p:cNvSpPr/>
          <p:nvPr/>
        </p:nvSpPr>
        <p:spPr>
          <a:xfrm>
            <a:off x="6039000" y="6453360"/>
            <a:ext cx="2133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93a77"/>
                </a:solidFill>
                <a:latin typeface="Arial"/>
              </a:rPr>
              <a:t>11 juillet 2011</a:t>
            </a:r>
            <a:endParaRPr b="0" lang="en-US" sz="8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02" name="Espace réservé du pied de page 4"/>
          <p:cNvSpPr/>
          <p:nvPr/>
        </p:nvSpPr>
        <p:spPr>
          <a:xfrm>
            <a:off x="401760" y="6453360"/>
            <a:ext cx="4752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693a77"/>
                </a:solidFill>
                <a:latin typeface="Arial"/>
              </a:rPr>
              <a:t>atelier de formation collective CIRAD INRA</a:t>
            </a:r>
            <a:endParaRPr b="0" lang="en-US" sz="7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03" name="Espace réservé du numéro de diapositive 5"/>
          <p:cNvSpPr/>
          <p:nvPr/>
        </p:nvSpPr>
        <p:spPr>
          <a:xfrm>
            <a:off x="8245440" y="6453360"/>
            <a:ext cx="503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4423-0851-4BE9-8EDE-D747BCB4909E}" type="slidenum">
              <a:rPr b="1" lang="fr-FR" sz="900" spc="-1" strike="noStrike">
                <a:solidFill>
                  <a:srgbClr val="693a77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68000" y="1197000"/>
            <a:ext cx="8280360" cy="4929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 fontScale="95000"/>
          </a:bodyPr>
          <a:p>
            <a:pPr marL="232200" indent="-232200">
              <a:spcBef>
                <a:spcPts val="2251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395"/>
                </a:solidFill>
                <a:latin typeface="Arial"/>
              </a:rPr>
              <a:t>A public organisation under the supervision of : 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1" marL="440280" indent="-206280">
              <a:spcBef>
                <a:spcPts val="675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7233f"/>
                </a:solidFill>
                <a:latin typeface="Arial"/>
              </a:rPr>
              <a:t>Ministry of foreign affairs, Ministry of finance, Ministry of oversee departments and regions</a:t>
            </a:r>
            <a:endParaRPr b="0" lang="en-US" sz="1800" spc="-1" strike="noStrike">
              <a:solidFill>
                <a:srgbClr val="97233f"/>
              </a:solidFill>
              <a:latin typeface="Arial"/>
            </a:endParaRPr>
          </a:p>
          <a:p>
            <a:pPr marL="232200" indent="-232200">
              <a:spcBef>
                <a:spcPts val="2251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395"/>
                </a:solidFill>
                <a:latin typeface="Arial"/>
              </a:rPr>
              <a:t>A financial institution managed according to the bank regulation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marL="232200" indent="-232200">
              <a:spcBef>
                <a:spcPts val="2251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395"/>
                </a:solidFill>
                <a:latin typeface="Arial"/>
              </a:rPr>
              <a:t>An increasing activity : +92% financing between 2007 and 2010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marL="232200" indent="-232200">
              <a:spcBef>
                <a:spcPts val="2251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395"/>
                </a:solidFill>
                <a:latin typeface="Arial"/>
              </a:rPr>
              <a:t>Different tools but importance of loans: grants represent only 7% of AFD financing 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marL="232200" indent="-232200">
              <a:spcBef>
                <a:spcPts val="2251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395"/>
                </a:solidFill>
                <a:latin typeface="Arial"/>
              </a:rPr>
              <a:t>No direct implementation -&gt; only through partners and following an explicit demand supported by the Ministry of Finance or at high political level (sustainability). 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marL="232200" indent="-232200">
              <a:spcBef>
                <a:spcPts val="2251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395"/>
                </a:solidFill>
                <a:latin typeface="Arial"/>
              </a:rPr>
              <a:t>Complementarity with multilateral donors 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1" marL="440280" indent="-206280">
              <a:spcBef>
                <a:spcPts val="675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7233f"/>
                </a:solidFill>
                <a:latin typeface="Arial"/>
              </a:rPr>
              <a:t>Specific expertise, raise awareness on an issue/initiative at international level</a:t>
            </a:r>
            <a:endParaRPr b="0" lang="en-US" sz="1800" spc="-1" strike="noStrike">
              <a:solidFill>
                <a:srgbClr val="97233f"/>
              </a:solidFill>
              <a:latin typeface="Arial"/>
            </a:endParaRPr>
          </a:p>
          <a:p>
            <a:pPr marL="232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2395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125892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93a77"/>
                </a:solidFill>
                <a:latin typeface="Arial Black"/>
              </a:rPr>
              <a:t>AFD: mandate, tools, strategy</a:t>
            </a:r>
            <a:endParaRPr b="0" lang="en-US" sz="3400" spc="-1" strike="noStrike">
              <a:solidFill>
                <a:srgbClr val="693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Espace réservé de la date 1"/>
          <p:cNvSpPr/>
          <p:nvPr/>
        </p:nvSpPr>
        <p:spPr>
          <a:xfrm>
            <a:off x="6039000" y="6453360"/>
            <a:ext cx="2133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93a77"/>
                </a:solidFill>
                <a:latin typeface="Arial"/>
              </a:rPr>
              <a:t>11 juillet 2011</a:t>
            </a:r>
            <a:endParaRPr b="0" lang="en-US" sz="8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07" name="Espace réservé du pied de page 2"/>
          <p:cNvSpPr/>
          <p:nvPr/>
        </p:nvSpPr>
        <p:spPr>
          <a:xfrm>
            <a:off x="401760" y="6361200"/>
            <a:ext cx="47527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693a77"/>
                </a:solidFill>
                <a:latin typeface="Arial"/>
              </a:rPr>
              <a:t>atelier de formation collective CIRAD INRA</a:t>
            </a:r>
            <a:endParaRPr b="0" lang="en-US" sz="7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08" name="Espace réservé du numéro de diapositive 3"/>
          <p:cNvSpPr/>
          <p:nvPr/>
        </p:nvSpPr>
        <p:spPr>
          <a:xfrm>
            <a:off x="8245440" y="6453360"/>
            <a:ext cx="503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4DF6-5F1C-4B92-A6F6-31B3ACC6B8DB}" type="slidenum">
              <a:rPr b="1" lang="fr-FR" sz="900" spc="-1" strike="noStrike">
                <a:solidFill>
                  <a:srgbClr val="693a77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09" name="Oval 66"/>
          <p:cNvSpPr/>
          <p:nvPr/>
        </p:nvSpPr>
        <p:spPr>
          <a:xfrm>
            <a:off x="1332000" y="1484280"/>
            <a:ext cx="1871640" cy="71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10" name="Oval 68"/>
          <p:cNvSpPr/>
          <p:nvPr/>
        </p:nvSpPr>
        <p:spPr>
          <a:xfrm>
            <a:off x="2411280" y="1916280"/>
            <a:ext cx="1584360" cy="72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324000" y="3933720"/>
            <a:ext cx="1800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3276720" y="2852640"/>
            <a:ext cx="230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4500720" y="2708280"/>
            <a:ext cx="7189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4284720" y="5011560"/>
            <a:ext cx="12952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1258920" y="189000"/>
            <a:ext cx="7416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93a77"/>
                </a:solidFill>
                <a:latin typeface="Arial Black"/>
              </a:rPr>
              <a:t>Food security within AFD</a:t>
            </a:r>
            <a:endParaRPr b="0" lang="en-US" sz="3000" spc="-1" strike="noStrike">
              <a:solidFill>
                <a:srgbClr val="693a77"/>
              </a:solidFill>
              <a:latin typeface="Arial"/>
            </a:endParaRPr>
          </a:p>
        </p:txBody>
      </p:sp>
      <p:pic>
        <p:nvPicPr>
          <p:cNvPr id="216" name="Picture 13" descr=""/>
          <p:cNvPicPr/>
          <p:nvPr/>
        </p:nvPicPr>
        <p:blipFill>
          <a:blip r:embed="rId1"/>
          <a:stretch/>
        </p:blipFill>
        <p:spPr>
          <a:xfrm>
            <a:off x="138240" y="2481120"/>
            <a:ext cx="8724600" cy="362592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2"/>
          <p:cNvSpPr/>
          <p:nvPr/>
        </p:nvSpPr>
        <p:spPr>
          <a:xfrm>
            <a:off x="468360" y="1197000"/>
            <a:ext cx="828036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44440" indent="-244440">
              <a:spcBef>
                <a:spcPts val="2251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395"/>
                </a:solidFill>
                <a:latin typeface="Arial"/>
              </a:rPr>
              <a:t>Less of half of AFD for food security (46% of mean 2000-2009) </a:t>
            </a:r>
            <a:endParaRPr b="0" lang="en-US" sz="1800" spc="-1" strike="noStrike">
              <a:solidFill>
                <a:srgbClr val="693a77"/>
              </a:solidFill>
              <a:latin typeface="Arial"/>
            </a:endParaRPr>
          </a:p>
          <a:p>
            <a:pPr marL="244440" indent="-244440">
              <a:spcBef>
                <a:spcPts val="2251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395"/>
                </a:solidFill>
                <a:latin typeface="Arial"/>
              </a:rPr>
              <a:t>Contributing but not targeted directly on food security</a:t>
            </a:r>
            <a:endParaRPr b="0" lang="en-US" sz="1800" spc="-1" strike="noStrike">
              <a:solidFill>
                <a:srgbClr val="693a77"/>
              </a:solidFill>
              <a:latin typeface="Arial"/>
            </a:endParaRPr>
          </a:p>
          <a:p>
            <a:pPr marL="244440" indent="-244440">
              <a:spcBef>
                <a:spcPts val="2251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93a77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Espace réservé de la date 1"/>
          <p:cNvSpPr/>
          <p:nvPr/>
        </p:nvSpPr>
        <p:spPr>
          <a:xfrm>
            <a:off x="6039000" y="6453360"/>
            <a:ext cx="2133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93a77"/>
                </a:solidFill>
                <a:latin typeface="Arial"/>
              </a:rPr>
              <a:t>11 juillet 2011</a:t>
            </a:r>
            <a:endParaRPr b="0" lang="en-US" sz="8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19" name="Espace réservé du pied de page 2"/>
          <p:cNvSpPr/>
          <p:nvPr/>
        </p:nvSpPr>
        <p:spPr>
          <a:xfrm>
            <a:off x="401760" y="6453360"/>
            <a:ext cx="4752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693a77"/>
                </a:solidFill>
                <a:latin typeface="Arial"/>
              </a:rPr>
              <a:t>atelier de formation collective CIRAD INRA</a:t>
            </a:r>
            <a:endParaRPr b="0" lang="en-US" sz="7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20" name="Espace réservé du numéro de diapositive 3"/>
          <p:cNvSpPr/>
          <p:nvPr/>
        </p:nvSpPr>
        <p:spPr>
          <a:xfrm>
            <a:off x="8245440" y="6453360"/>
            <a:ext cx="503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E34D-6562-4471-853A-3412F0594C73}" type="slidenum">
              <a:rPr b="1" lang="fr-FR" sz="900" spc="-1" strike="noStrike">
                <a:solidFill>
                  <a:srgbClr val="693a77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2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637C-FBE1-4E42-B098-AC687B15A29E}" type="slidenum">
              <a:rPr b="0" lang="fr-FR" sz="14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125892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93a77"/>
                </a:solidFill>
                <a:latin typeface="Arial Black"/>
              </a:rPr>
              <a:t>Financial instruments for Food security</a:t>
            </a:r>
            <a:endParaRPr b="0" lang="en-US" sz="3000" spc="-1" strike="noStrike">
              <a:solidFill>
                <a:srgbClr val="693a77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181080" y="1989000"/>
            <a:ext cx="867708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064720" cy="1656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93a77"/>
                </a:solidFill>
                <a:latin typeface="Arial Black"/>
              </a:rPr>
              <a:t>2. Support to information systems</a:t>
            </a:r>
            <a:endParaRPr b="0" lang="en-US" sz="30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39640" y="4436640"/>
            <a:ext cx="8064720" cy="647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endParaRPr b="0" lang="en-US" sz="21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Espace réservé de la date 3"/>
          <p:cNvSpPr/>
          <p:nvPr/>
        </p:nvSpPr>
        <p:spPr>
          <a:xfrm>
            <a:off x="6039000" y="6453360"/>
            <a:ext cx="2133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93a77"/>
                </a:solidFill>
                <a:latin typeface="Arial"/>
              </a:rPr>
              <a:t>11 juillet 2011</a:t>
            </a:r>
            <a:endParaRPr b="0" lang="en-US" sz="8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27" name="Espace réservé du pied de page 4"/>
          <p:cNvSpPr/>
          <p:nvPr/>
        </p:nvSpPr>
        <p:spPr>
          <a:xfrm>
            <a:off x="401760" y="6453360"/>
            <a:ext cx="4752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693a77"/>
                </a:solidFill>
                <a:latin typeface="Arial"/>
              </a:rPr>
              <a:t>atelier de formation collective CIRAD INRA</a:t>
            </a:r>
            <a:endParaRPr b="0" lang="en-US" sz="7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28" name="Espace réservé du numéro de diapositive 5"/>
          <p:cNvSpPr/>
          <p:nvPr/>
        </p:nvSpPr>
        <p:spPr>
          <a:xfrm>
            <a:off x="8245440" y="6453360"/>
            <a:ext cx="503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E6B2-3CA3-4ABF-BE47-F72977518F13}" type="slidenum">
              <a:rPr b="1" lang="fr-FR" sz="900" spc="-1" strike="noStrike">
                <a:solidFill>
                  <a:srgbClr val="693a77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424720" cy="4784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marL="244440" indent="-244440">
              <a:spcBef>
                <a:spcPts val="2500"/>
              </a:spcBef>
              <a:buClr>
                <a:srgbClr val="97233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233f"/>
                </a:solidFill>
                <a:latin typeface="Arial"/>
              </a:rPr>
              <a:t>Market information systems: </a:t>
            </a:r>
            <a:r>
              <a:rPr b="0" lang="en-US" sz="2000" spc="-1" strike="noStrike">
                <a:solidFill>
                  <a:srgbClr val="002395"/>
                </a:solidFill>
                <a:latin typeface="Arial"/>
              </a:rPr>
              <a:t>Better knowledge of new generation of MIS (new technologies), Impact evaluation of first and second generation MIS.  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marL="244440" indent="-244440">
              <a:spcBef>
                <a:spcPts val="2500"/>
              </a:spcBef>
              <a:buClr>
                <a:srgbClr val="97233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233f"/>
                </a:solidFill>
                <a:latin typeface="Arial"/>
              </a:rPr>
              <a:t>Epidemiologic surveillance systems</a:t>
            </a:r>
            <a:r>
              <a:rPr b="0" lang="en-US" sz="2000" spc="-1" strike="noStrike">
                <a:solidFill>
                  <a:srgbClr val="002395"/>
                </a:solidFill>
                <a:latin typeface="Arial"/>
              </a:rPr>
              <a:t>: Evaluation of economic and social impact of these systems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marL="244440" indent="-244440">
              <a:spcBef>
                <a:spcPts val="2500"/>
              </a:spcBef>
              <a:buClr>
                <a:srgbClr val="97233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233f"/>
                </a:solidFill>
                <a:latin typeface="Arial"/>
              </a:rPr>
              <a:t>Price volatility: </a:t>
            </a:r>
            <a:r>
              <a:rPr b="0" lang="en-US" sz="2000" spc="-1" strike="noStrike">
                <a:solidFill>
                  <a:srgbClr val="002395"/>
                </a:solidFill>
                <a:latin typeface="Arial"/>
              </a:rPr>
              <a:t>Understanding the volatility factors, analysis of transmission mechanisms, analysis of prevention/response tools            - -&gt; G20 propositions (AMIS, Rapid response forum) 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1258920" y="189000"/>
            <a:ext cx="7415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93a77"/>
                </a:solidFill>
                <a:latin typeface="Arial Black"/>
              </a:rPr>
              <a:t>Knowledge</a:t>
            </a:r>
            <a:endParaRPr b="0" lang="en-US" sz="3400" spc="-1" strike="noStrike">
              <a:solidFill>
                <a:srgbClr val="693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Espace réservé de la date 3"/>
          <p:cNvSpPr/>
          <p:nvPr/>
        </p:nvSpPr>
        <p:spPr>
          <a:xfrm>
            <a:off x="6039000" y="6453360"/>
            <a:ext cx="2133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93a77"/>
                </a:solidFill>
                <a:latin typeface="Arial"/>
              </a:rPr>
              <a:t>11 juillet 2011</a:t>
            </a:r>
            <a:endParaRPr b="0" lang="en-US" sz="8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32" name="Espace réservé du pied de page 4"/>
          <p:cNvSpPr/>
          <p:nvPr/>
        </p:nvSpPr>
        <p:spPr>
          <a:xfrm>
            <a:off x="401760" y="6453360"/>
            <a:ext cx="4752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693a77"/>
                </a:solidFill>
                <a:latin typeface="Arial"/>
              </a:rPr>
              <a:t>atelier de formation collective CIRAD INRA</a:t>
            </a:r>
            <a:endParaRPr b="0" lang="en-US" sz="7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33" name="Espace réservé du numéro de diapositive 5"/>
          <p:cNvSpPr/>
          <p:nvPr/>
        </p:nvSpPr>
        <p:spPr>
          <a:xfrm>
            <a:off x="8245440" y="6453360"/>
            <a:ext cx="503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AAC7-DB02-42AE-B5AE-8E3192FF95AE}" type="slidenum">
              <a:rPr b="1" lang="fr-FR" sz="900" spc="-1" strike="noStrike">
                <a:solidFill>
                  <a:srgbClr val="693a77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693a77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8560" y="189000"/>
            <a:ext cx="7885080" cy="1008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3a77"/>
                </a:solidFill>
                <a:latin typeface="Arial Black"/>
              </a:rPr>
              <a:t>Targeted support</a:t>
            </a:r>
            <a:endParaRPr b="0" lang="en-US" sz="3200" spc="-1" strike="noStrike">
              <a:solidFill>
                <a:srgbClr val="693a77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74200" y="1267920"/>
            <a:ext cx="8101080" cy="47530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rmAutofit/>
          </a:bodyPr>
          <a:p>
            <a:pPr marL="244440" indent="-244440">
              <a:spcBef>
                <a:spcPts val="1199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395"/>
                </a:solidFill>
                <a:latin typeface="Arial"/>
              </a:rPr>
              <a:t>To international organisations: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lvl="1" marL="463680" indent="-217440">
              <a:spcBef>
                <a:spcPts val="675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7233f"/>
                </a:solidFill>
                <a:latin typeface="Arial"/>
              </a:rPr>
              <a:t>FAO/EMPRES: locust </a:t>
            </a:r>
            <a:endParaRPr b="0" lang="en-US" sz="1800" spc="-1" strike="noStrike">
              <a:solidFill>
                <a:srgbClr val="97233f"/>
              </a:solidFill>
              <a:latin typeface="Arial"/>
            </a:endParaRPr>
          </a:p>
          <a:p>
            <a:pPr lvl="1" marL="463680" indent="-217440">
              <a:spcBef>
                <a:spcPts val="675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7233f"/>
                </a:solidFill>
                <a:latin typeface="Arial"/>
              </a:rPr>
              <a:t>OFLU, OWOH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: Avian Flu</a:t>
            </a:r>
            <a:endParaRPr b="0" lang="en-US" sz="1800" spc="-1" strike="noStrike">
              <a:solidFill>
                <a:srgbClr val="97233f"/>
              </a:solidFill>
              <a:latin typeface="Arial"/>
            </a:endParaRPr>
          </a:p>
          <a:p>
            <a:pPr marL="244440" indent="-244440">
              <a:spcBef>
                <a:spcPts val="1199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395"/>
                </a:solidFill>
                <a:latin typeface="Arial"/>
              </a:rPr>
              <a:t>To regional organisation: </a:t>
            </a:r>
            <a:r>
              <a:rPr b="0" lang="en-US" sz="1800" spc="-1" strike="noStrike">
                <a:solidFill>
                  <a:srgbClr val="97233f"/>
                </a:solidFill>
                <a:latin typeface="Arial"/>
              </a:rPr>
              <a:t>Support to ECOWAS 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1" marL="463680" indent="-217440">
              <a:spcBef>
                <a:spcPts val="675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7233f"/>
                </a:solidFill>
                <a:latin typeface="Arial"/>
              </a:rPr>
              <a:t>Mapping of food security risk in the region</a:t>
            </a:r>
            <a:endParaRPr b="0" lang="en-US" sz="1800" spc="-1" strike="noStrike">
              <a:solidFill>
                <a:srgbClr val="97233f"/>
              </a:solidFill>
              <a:latin typeface="Arial"/>
            </a:endParaRPr>
          </a:p>
          <a:p>
            <a:pPr lvl="1" marL="463680" indent="-217440">
              <a:spcBef>
                <a:spcPts val="675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7233f"/>
                </a:solidFill>
                <a:latin typeface="Arial"/>
              </a:rPr>
              <a:t>Reinforcing IS : </a:t>
            </a:r>
            <a:endParaRPr b="0" lang="en-US" sz="1800" spc="-1" strike="noStrike">
              <a:solidFill>
                <a:srgbClr val="97233f"/>
              </a:solidFill>
              <a:latin typeface="Arial"/>
            </a:endParaRPr>
          </a:p>
          <a:p>
            <a:pPr lvl="2" marL="646200" indent="-181080">
              <a:spcBef>
                <a:spcPts val="451"/>
              </a:spcBef>
              <a:buClr>
                <a:srgbClr val="97233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7233f"/>
                </a:solidFill>
                <a:latin typeface="Arial"/>
              </a:rPr>
              <a:t>Data : From price to trade flows, reinforcing nutritional surveillance, integrating household incomes </a:t>
            </a:r>
            <a:endParaRPr b="0" i="1" lang="en-US" sz="1800" spc="-1" strike="noStrike">
              <a:solidFill>
                <a:srgbClr val="97233f"/>
              </a:solidFill>
              <a:latin typeface="Arial"/>
            </a:endParaRPr>
          </a:p>
          <a:p>
            <a:pPr lvl="2" marL="646200" indent="-181080">
              <a:spcBef>
                <a:spcPts val="451"/>
              </a:spcBef>
              <a:buClr>
                <a:srgbClr val="97233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7233f"/>
                </a:solidFill>
                <a:latin typeface="Arial"/>
              </a:rPr>
              <a:t>Analysis capacity</a:t>
            </a:r>
            <a:endParaRPr b="0" i="1" lang="en-US" sz="1800" spc="-1" strike="noStrike">
              <a:solidFill>
                <a:srgbClr val="97233f"/>
              </a:solidFill>
              <a:latin typeface="Arial"/>
            </a:endParaRPr>
          </a:p>
          <a:p>
            <a:pPr marL="244440" indent="-244440">
              <a:spcBef>
                <a:spcPts val="1199"/>
              </a:spcBef>
              <a:buClr>
                <a:srgbClr val="00239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395"/>
                </a:solidFill>
                <a:latin typeface="Arial"/>
              </a:rPr>
              <a:t>To national initiatives: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lvl="1" marL="463680" indent="-217440">
              <a:spcBef>
                <a:spcPts val="675"/>
              </a:spcBef>
              <a:buClr>
                <a:srgbClr val="97233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7233f"/>
                </a:solidFill>
                <a:latin typeface="Arial"/>
              </a:rPr>
              <a:t>Livestock related information system (Ethiopia, Tunisia)</a:t>
            </a:r>
            <a:endParaRPr b="0" lang="en-US" sz="1800" spc="-1" strike="noStrike">
              <a:solidFill>
                <a:srgbClr val="9723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7:20:31Z</dcterms:created>
  <dc:creator>OLIVEV</dc:creator>
  <dc:description/>
  <dc:language>en-US</dc:language>
  <cp:lastModifiedBy>Marie-Cécile Thirion</cp:lastModifiedBy>
  <dcterms:modified xsi:type="dcterms:W3CDTF">2011-09-09T07:16:22Z</dcterms:modified>
  <cp:revision>342</cp:revision>
  <dc:subject/>
  <dc:title>Titre de la présentation sur deux ou trois lignes</dc:title>
</cp:coreProperties>
</file>